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9.png" ContentType="image/png"/>
  <Override PartName="/ppt/media/image11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png" ContentType="image/png"/>
  <Override PartName="/ppt/media/image24.jpeg" ContentType="image/jpeg"/>
  <Override PartName="/ppt/media/image22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5786-07F3-42D9-94F0-7A07E7D804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8937-C917-4251-8B4F-A40C4A0542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Земле существует огромное количество видов раст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 начать понемногу разбираться в сотнях тысяч видов растений, которые нас окружают. Ты узнаешь о том, что существует на земле четыре вовсе не сказочных царства: животных, грибов, бактерий и  растений. Мы рассмотрим, что такое высшие растения и низшие, что значит "цветковое растение", и из каких органов оно состо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247B-C7B4-4B15-B881-6DC998C8A2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гетативные органы растения выполняют свои определенные функции (работу), необходимые для нормальной жизни растения. Листья растения улавливают солнечную энергию, вырабатывая при этом питательные вещества. Листья активно участвуют в дыхании растения, ведь дышат все живые организ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теблю прикрепляются не только листья, но и цветки. А затем - плоды, появляющиеся на месте цветков. По стеблю к плодам поступают питательные вещества и в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растение получало из почвы воду, необходимо, чтобы корни, как насосы, качали ее из земли и подавали вверх по стеб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4E14-75C9-4088-BCB5-073F073F3F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, благодаря которым происходит семенное размножение растений, называются репродуктивными (репродукция - воспроизвед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репродуктивным органам растений относятся цветки, плоды и сем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ую часть своей жизни растение может преспокойно существовать, обходясь только вегетативными органами. А вот когда приходит пора размножения, без репродуктивных органов не обойт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расцветают цве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на месте цветков появляются плод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орых зреют сем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ревшие семена, попадая в землю, через какое-то время прорастают, давая начало новым растениям. Так, например, появился молодой дубок, который ты видишь на рисунке. Из гигантского семени сейшельской пальмы вырастает такая же сейшельская пальма. А из семян лютика появляются, конечно же, лю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6F8C-5237-42F4-96EB-36E3EFE93C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е растения разных видов различаются не только по строению вегетативных и репродуктивных органов, но и по общему внешнему обл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облик растения называется его жизненной фор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й посмотрим, какие же бывают жизненные формы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ево, кустарник и т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12BE-FA2F-459D-A003-CDF53EED62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, что такое береза, дуб, клен даже первоклассник сразу ответит: "Деревья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ревьев есть один главный стебель. Обычно он толстый, мощный и одревесневший. Стебель деревьев называется ство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ерхней части ствола располагаются многочисленные вет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евья - многолетние растения. Они могут жить очень долго и достигать большой высоты. Так, дуб может прожить до 1000 лет, а австралийский эвкалипт достигает высоты 100 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C16E-EA0B-4EA0-A338-FE4CED4412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кустарников, в отличие от деревьев, не один мощный ствол, а несколько стволов поменьше. Стволы кустарника отходят от общего основания, которое располагается в верхнем слое почвы. Такую жизненную форму имеют лесной орех, бузина, смородина, крыжовник и многие другие растения. Кустарники, как и деревья, всегда многолетние растения, хотя живут и не так дол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5C75-B256-49F4-8F63-E30F88AC5C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бли трав, как правило, зеленые. Их высота меньше, чем у деревьев и кустарников. Однако и среди них встречаются тропические гига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, травянистое растение банан может достигать высоты 6-15 метров. У многих травянистых растений надземная зеленая часть на зимний холодный период отмирает и вновь отрастает с приходом вес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811C-6F54-4EFB-AE88-D53629ADEB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я приспособлены к любой среде об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рях, озерах и реках существуют водн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растений живет на суше. При этом их корни "осваивают" почву, а надземные части находятся в воздушно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й среде обитания растения соседствуют с грибами, бактериями и живот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5489-B743-410A-B153-B9CDA24E0A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зучением животных занимается наука зоология, то вот грибы и бактерии так же, как и растения, интересуют ученых-бота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 себе, что в погожий летний день ты находишься в лесу. Оглядись! Ты видишь разные растения, грибы, тебя окружают невидимые простым глазом бактерии. Все они - представители разных царств. Но не пугайся, эти царства воевать никогда не будут. Наоборот, они живут очень мирно и даже помогаю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B4C3-723E-46E9-A041-7DABF1938B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ибы помогают деревьям добывать из почвы минеральные вещества, а деревья, в знак благодарности, снабжают их саха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ьчайшие бактерии могут найти для себя "дом" в корнях клевера, гороха и других растений. Платят они за гостеприимство тем, что помогают получать очень нужное растению вещество - азот. Без помощи бактерий растение с этой задачей не справилось б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BD25-8626-4D4E-88C9-0FA651FC0E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й сравним ромашку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гучим дуб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отри, и у ромашки, и у дуба есть кор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т и стебель. У ромашки он тоненький, а у дуба - это огромный ств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это ли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я, у которых есть корень, стебель и листья, называются высши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762A-90A7-478E-924C-5686B4F017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арстве растений сосуществуют высшие и низшие рас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нимательно рассмотреть водоросль (например, такую как фукус) то мы не найдем у нее ни корней, ни стебля, ни листьев. Растение, имеющее такое строение, называется низш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о высших растений разделено на органы, а низшего растения –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960C-E2D4-48AC-9E27-FD09AAAF9E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е растения – самая многочисленная группа растений на Зем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них самое значимое место занимают цветковые рас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бе, наверняка, хорошо знакомы многие цветковые растения. Это колокольчик и береза, морковь и яблоня, ландыш, клевер, пшеница и многие друг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о цветковых растений включает в себя следующие органы: корни, побеги, цветки, плоды с семе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8D64-8142-47C1-8C49-FB741F412B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обег? Куда он бежит? К свету, к солнцу. Потому что побег - это надземная часть растения. Он состоит из стебля и листь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бли и листья есть не только у цветковых растений, а вот цветки и плоды - только у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народное поверье, что человек, нашедший в летнюю ночь в лесу цветок папоротника, будет счастлив. Очень красивая сказка! Но... у папоротника цветков не бывает никогда. Нет их и у хвойных деревьев. Эти растения к цветковым не относ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D044-B587-4E32-8BF5-5EF3CFA739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равнению с другими растениями, цветковые имеют больше всего органов. Поэтому давай на их примере и разберемся, какие же органы могут быть у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цветковых растений выделяют вегетативные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продуктивные орг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чно основную массу растения составляют вегетативные органы. К ним относятся корни и побе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, благодаря которым происходит семенное размножение растений, называются репродуктивными (репродукция - воспроизведение). К репродуктивным органам растений относятся цветки, плоды и сем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FB65-7472-4DE6-97C8-5B0E4C967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00A5-344C-4346-8964-B6831AEE6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D1F9-893C-4336-986E-88225C363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1906-8025-4866-8583-4B66281C9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0917-B2FC-4445-8D44-268039B2A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DDBD-6AC3-4CAB-B72A-1CFE4A168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6DFC-7FC1-4800-944D-2A59B613B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5DC6-2E58-4376-B7D4-78B1EF41D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5ED5-B054-40C9-BC5F-42A0EF627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C19D-7A46-4F8F-BB4A-7FC8B05BA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F552-06D6-4DDB-8D66-D0FA78E47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C306-1F4B-4CE0-B781-F62AFE6C7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8323-344D-42A6-9D7A-DDCF076DB4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007 го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3720" y="6244920"/>
            <a:ext cx="5480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У школа-интернат V-VI вида Костромской об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ветковые раст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ые распространенные среди высших и низших раст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егетативные орган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5" name="Picture 10" descr="Урок 02 (19)"/>
          <p:cNvPicPr/>
          <p:nvPr/>
        </p:nvPicPr>
        <p:blipFill>
          <a:blip r:embed="rId1"/>
          <a:stretch/>
        </p:blipFill>
        <p:spPr>
          <a:xfrm>
            <a:off x="698400" y="1338120"/>
            <a:ext cx="3724200" cy="452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Урок 02 (21)"/>
          <p:cNvPicPr/>
          <p:nvPr/>
        </p:nvPicPr>
        <p:blipFill>
          <a:blip r:embed="rId2"/>
          <a:stretch/>
        </p:blipFill>
        <p:spPr>
          <a:xfrm>
            <a:off x="5124600" y="1335240"/>
            <a:ext cx="3321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Репродуктивные орган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Picture 27" descr="цветок"/>
          <p:cNvPicPr/>
          <p:nvPr/>
        </p:nvPicPr>
        <p:blipFill>
          <a:blip r:embed="rId1"/>
          <a:stretch/>
        </p:blipFill>
        <p:spPr>
          <a:xfrm>
            <a:off x="2978280" y="1898640"/>
            <a:ext cx="5786280" cy="400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9" descr="плод"/>
          <p:cNvPicPr/>
          <p:nvPr/>
        </p:nvPicPr>
        <p:blipFill>
          <a:blip r:embed="rId2"/>
          <a:stretch/>
        </p:blipFill>
        <p:spPr>
          <a:xfrm>
            <a:off x="3765600" y="1898640"/>
            <a:ext cx="4421160" cy="400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0" descr="семена"/>
          <p:cNvPicPr/>
          <p:nvPr/>
        </p:nvPicPr>
        <p:blipFill>
          <a:blip r:embed="rId3"/>
          <a:stretch/>
        </p:blipFill>
        <p:spPr>
          <a:xfrm>
            <a:off x="2978280" y="1900080"/>
            <a:ext cx="5787720" cy="4003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2" descr="820016"/>
          <p:cNvPicPr/>
          <p:nvPr/>
        </p:nvPicPr>
        <p:blipFill>
          <a:blip r:embed="rId4"/>
          <a:stretch/>
        </p:blipFill>
        <p:spPr>
          <a:xfrm>
            <a:off x="378000" y="1494000"/>
            <a:ext cx="221904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хема. Жизненные формы растений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73" name="Organization Chart 12"/>
          <p:cNvGrpSpPr/>
          <p:nvPr/>
        </p:nvGrpSpPr>
        <p:grpSpPr>
          <a:xfrm>
            <a:off x="457200" y="1614600"/>
            <a:ext cx="8228880" cy="2270880"/>
            <a:chOff x="457200" y="1614600"/>
            <a:chExt cx="8228880" cy="2270880"/>
          </a:xfrm>
        </p:grpSpPr>
        <p:cxnSp>
          <p:nvCxnSpPr>
            <p:cNvPr id="174" name="_s5124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5796720" y="1308960"/>
              <a:ext cx="429840" cy="2880720"/>
            </a:xfrm>
            <a:prstGeom prst="bentConnector3">
              <a:avLst>
                <a:gd name="adj1" fmla="val 2673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77" name="_s5125"/>
            <p:cNvCxnSpPr>
              <a:stCxn id="178" idx="0"/>
              <a:endCxn id="176" idx="2"/>
            </p:cNvCxnSpPr>
            <p:nvPr/>
          </p:nvCxnSpPr>
          <p:spPr>
            <a:xfrm flipV="1">
              <a:off x="4571280" y="2534760"/>
              <a:ext cx="3240" cy="4298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79" name="_s5126"/>
            <p:cNvCxnSpPr>
              <a:stCxn id="180" idx="0"/>
              <a:endCxn id="176" idx="2"/>
            </p:cNvCxnSpPr>
            <p:nvPr/>
          </p:nvCxnSpPr>
          <p:spPr>
            <a:xfrm flipH="1" flipV="1" rot="5400000">
              <a:off x="2916360" y="1309320"/>
              <a:ext cx="429840" cy="2880720"/>
            </a:xfrm>
            <a:prstGeom prst="bentConnector3">
              <a:avLst>
                <a:gd name="adj1" fmla="val 26739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76" name="_s5127"/>
            <p:cNvSpPr/>
            <p:nvPr/>
          </p:nvSpPr>
          <p:spPr>
            <a:xfrm>
              <a:off x="3337200" y="1614600"/>
              <a:ext cx="2468520" cy="9082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Жизненные</a:t>
              </a:r>
              <a:br>
                <a:rPr sz="2700"/>
              </a:b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формы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5128">
              <a:hlinkClick r:id="rId1" action="ppaction://hlinksldjump"/>
            </p:cNvPr>
            <p:cNvSpPr/>
            <p:nvPr/>
          </p:nvSpPr>
          <p:spPr>
            <a:xfrm>
              <a:off x="457200" y="2977200"/>
              <a:ext cx="2468520" cy="9082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Дерево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5129">
              <a:hlinkClick r:id="rId2" action="ppaction://hlinksldjump"/>
            </p:cNvPr>
            <p:cNvSpPr/>
            <p:nvPr/>
          </p:nvSpPr>
          <p:spPr>
            <a:xfrm>
              <a:off x="3337200" y="2977200"/>
              <a:ext cx="2468520" cy="9082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Кустарник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_s5130"/>
            <p:cNvSpPr/>
            <p:nvPr/>
          </p:nvSpPr>
          <p:spPr>
            <a:xfrm>
              <a:off x="6217560" y="2977200"/>
              <a:ext cx="2468520" cy="9082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Трава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Picture 20" descr="дерево"/>
          <p:cNvPicPr/>
          <p:nvPr/>
        </p:nvPicPr>
        <p:blipFill>
          <a:blip r:embed="rId3"/>
          <a:stretch/>
        </p:blipFill>
        <p:spPr>
          <a:xfrm>
            <a:off x="762120" y="3962520"/>
            <a:ext cx="2025360" cy="2533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куст"/>
          <p:cNvPicPr/>
          <p:nvPr/>
        </p:nvPicPr>
        <p:blipFill>
          <a:blip r:embed="rId4"/>
          <a:stretch/>
        </p:blipFill>
        <p:spPr>
          <a:xfrm>
            <a:off x="3809880" y="4343400"/>
            <a:ext cx="1685880" cy="2009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трава"/>
          <p:cNvPicPr/>
          <p:nvPr/>
        </p:nvPicPr>
        <p:blipFill>
          <a:blip r:embed="rId5"/>
          <a:stretch/>
        </p:blipFill>
        <p:spPr>
          <a:xfrm>
            <a:off x="7010280" y="4495680"/>
            <a:ext cx="9144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2" descr="дерево"/>
          <p:cNvPicPr/>
          <p:nvPr/>
        </p:nvPicPr>
        <p:blipFill>
          <a:blip r:embed="rId1"/>
          <a:stretch/>
        </p:blipFill>
        <p:spPr>
          <a:xfrm>
            <a:off x="425520" y="1628640"/>
            <a:ext cx="2390760" cy="4527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Жизненная форма - дерево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86" name="Group 29"/>
          <p:cNvGrpSpPr/>
          <p:nvPr/>
        </p:nvGrpSpPr>
        <p:grpSpPr>
          <a:xfrm>
            <a:off x="1781280" y="5094360"/>
            <a:ext cx="2724120" cy="520560"/>
            <a:chOff x="1781280" y="5094360"/>
            <a:chExt cx="2724120" cy="520560"/>
          </a:xfrm>
        </p:grpSpPr>
        <p:sp>
          <p:nvSpPr>
            <p:cNvPr id="187" name="Text Box 24"/>
            <p:cNvSpPr/>
            <p:nvPr/>
          </p:nvSpPr>
          <p:spPr>
            <a:xfrm>
              <a:off x="3335400" y="5094360"/>
              <a:ext cx="117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ствол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26"/>
            <p:cNvSpPr/>
            <p:nvPr/>
          </p:nvSpPr>
          <p:spPr>
            <a:xfrm flipV="1">
              <a:off x="1781280" y="5408280"/>
              <a:ext cx="1576440" cy="18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28"/>
          <p:cNvGrpSpPr/>
          <p:nvPr/>
        </p:nvGrpSpPr>
        <p:grpSpPr>
          <a:xfrm>
            <a:off x="2322360" y="2933640"/>
            <a:ext cx="2183040" cy="520560"/>
            <a:chOff x="2322360" y="2933640"/>
            <a:chExt cx="2183040" cy="520560"/>
          </a:xfrm>
        </p:grpSpPr>
        <p:sp>
          <p:nvSpPr>
            <p:cNvPr id="190" name="Text Box 25"/>
            <p:cNvSpPr/>
            <p:nvPr/>
          </p:nvSpPr>
          <p:spPr>
            <a:xfrm>
              <a:off x="3335400" y="2933640"/>
              <a:ext cx="117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ветк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>
              <a:off x="2322360" y="3159000"/>
              <a:ext cx="989280" cy="4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AutoShape 33"/>
          <p:cNvSpPr/>
          <p:nvPr/>
        </p:nvSpPr>
        <p:spPr>
          <a:xfrm>
            <a:off x="682560" y="645480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5" descr="img_4671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Жизненная форма - кустарник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5" name="Picture 15" descr="куст"/>
          <p:cNvPicPr/>
          <p:nvPr/>
        </p:nvPicPr>
        <p:blipFill>
          <a:blip r:embed="rId1"/>
          <a:stretch/>
        </p:blipFill>
        <p:spPr>
          <a:xfrm>
            <a:off x="297000" y="2798640"/>
            <a:ext cx="2249280" cy="313560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21"/>
          <p:cNvGrpSpPr/>
          <p:nvPr/>
        </p:nvGrpSpPr>
        <p:grpSpPr>
          <a:xfrm>
            <a:off x="1332000" y="4778280"/>
            <a:ext cx="3173400" cy="947520"/>
            <a:chOff x="1332000" y="4778280"/>
            <a:chExt cx="3173400" cy="947520"/>
          </a:xfrm>
        </p:grpSpPr>
        <p:sp>
          <p:nvSpPr>
            <p:cNvPr id="197" name="Text Box 17"/>
            <p:cNvSpPr/>
            <p:nvPr/>
          </p:nvSpPr>
          <p:spPr>
            <a:xfrm>
              <a:off x="3335400" y="5205240"/>
              <a:ext cx="117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ствол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8"/>
            <p:cNvSpPr/>
            <p:nvPr/>
          </p:nvSpPr>
          <p:spPr>
            <a:xfrm>
              <a:off x="1601640" y="4778280"/>
              <a:ext cx="1756080" cy="74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9"/>
            <p:cNvSpPr/>
            <p:nvPr/>
          </p:nvSpPr>
          <p:spPr>
            <a:xfrm>
              <a:off x="1332000" y="5364000"/>
              <a:ext cx="2023920" cy="155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0"/>
            <p:cNvSpPr/>
            <p:nvPr/>
          </p:nvSpPr>
          <p:spPr>
            <a:xfrm flipV="1">
              <a:off x="1600200" y="5517720"/>
              <a:ext cx="1755720" cy="204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AutoShape 22"/>
          <p:cNvSpPr/>
          <p:nvPr/>
        </p:nvSpPr>
        <p:spPr>
          <a:xfrm>
            <a:off x="682560" y="645480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3" descr="2_b"/>
          <p:cNvPicPr/>
          <p:nvPr/>
        </p:nvPicPr>
        <p:blipFill>
          <a:blip r:embed="rId2"/>
          <a:stretch/>
        </p:blipFill>
        <p:spPr>
          <a:xfrm>
            <a:off x="4762440" y="1962000"/>
            <a:ext cx="38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Жизненная форма - трав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4" name="Picture 15" descr="трава"/>
          <p:cNvPicPr/>
          <p:nvPr/>
        </p:nvPicPr>
        <p:blipFill>
          <a:blip r:embed="rId1"/>
          <a:stretch/>
        </p:blipFill>
        <p:spPr>
          <a:xfrm>
            <a:off x="1314360" y="3608280"/>
            <a:ext cx="1422360" cy="25178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6"/>
          <p:cNvSpPr/>
          <p:nvPr/>
        </p:nvSpPr>
        <p:spPr>
          <a:xfrm>
            <a:off x="682560" y="645480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7599" y="3837"/>
                </a:moveTo>
                <a:lnTo>
                  <a:pt x="20175" y="6448"/>
                </a:ln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lnTo>
                  <a:pt x="24562" y="10800"/>
                </a:lnTo>
                <a:lnTo>
                  <a:pt x="22908" y="10800"/>
                </a:lnTo>
                <a:lnTo>
                  <a:pt x="22908" y="17989"/>
                </a:lnTo>
                <a:lnTo>
                  <a:pt x="12290" y="17989"/>
                </a:lnTo>
                <a:lnTo>
                  <a:pt x="12290" y="10800"/>
                </a:lnTo>
                <a:lnTo>
                  <a:pt x="10636" y="10800"/>
                </a:lnTo>
                <a:close/>
              </a:path>
              <a:path fill="darkenLess" w="35198" h="21600">
                <a:moveTo>
                  <a:pt x="20175" y="6448"/>
                </a:moveTo>
                <a:lnTo>
                  <a:pt x="20175" y="4707"/>
                </a:lnTo>
                <a:lnTo>
                  <a:pt x="21951" y="4707"/>
                </a:lnTo>
                <a:lnTo>
                  <a:pt x="21951" y="8224"/>
                </a:lnTo>
                <a:close/>
              </a:path>
              <a:path fill="darkenLess" w="35198" h="21600">
                <a:moveTo>
                  <a:pt x="16676" y="14299"/>
                </a:moveTo>
                <a:lnTo>
                  <a:pt x="18522" y="14299"/>
                </a:lnTo>
                <a:lnTo>
                  <a:pt x="18522" y="17989"/>
                </a:lnTo>
                <a:lnTo>
                  <a:pt x="22908" y="17989"/>
                </a:lnTo>
                <a:lnTo>
                  <a:pt x="22908" y="10800"/>
                </a:lnTo>
                <a:lnTo>
                  <a:pt x="12290" y="10800"/>
                </a:lnTo>
                <a:lnTo>
                  <a:pt x="12290" y="17989"/>
                </a:lnTo>
                <a:lnTo>
                  <a:pt x="16676" y="17989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9" descr="EAT_Gril_05"/>
          <p:cNvPicPr/>
          <p:nvPr/>
        </p:nvPicPr>
        <p:blipFill>
          <a:blip r:embed="rId2"/>
          <a:stretch/>
        </p:blipFill>
        <p:spPr>
          <a:xfrm>
            <a:off x="4395960" y="1584360"/>
            <a:ext cx="4001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хема. Где живут растен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89" name="Organization Chart 3"/>
          <p:cNvGrpSpPr/>
          <p:nvPr/>
        </p:nvGrpSpPr>
        <p:grpSpPr>
          <a:xfrm>
            <a:off x="457200" y="1600200"/>
            <a:ext cx="8229240" cy="2185920"/>
            <a:chOff x="457200" y="1600200"/>
            <a:chExt cx="8229240" cy="2185920"/>
          </a:xfrm>
        </p:grpSpPr>
        <p:cxnSp>
          <p:nvCxnSpPr>
            <p:cNvPr id="90" name="_s1028"/>
            <p:cNvCxnSpPr>
              <a:stCxn id="91" idx="0"/>
              <a:endCxn id="92" idx="2"/>
            </p:cNvCxnSpPr>
            <p:nvPr/>
          </p:nvCxnSpPr>
          <p:spPr>
            <a:xfrm flipH="1" flipV="1" rot="5400000">
              <a:off x="3260160" y="1585080"/>
              <a:ext cx="408960" cy="2216160"/>
            </a:xfrm>
            <a:prstGeom prst="bentConnector3">
              <a:avLst>
                <a:gd name="adj1" fmla="val 2792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93" name="_s1029"/>
            <p:cNvCxnSpPr>
              <a:stCxn id="94" idx="0"/>
              <a:endCxn id="92" idx="2"/>
            </p:cNvCxnSpPr>
            <p:nvPr/>
          </p:nvCxnSpPr>
          <p:spPr>
            <a:xfrm flipV="1" rot="16200000">
              <a:off x="5475600" y="1584720"/>
              <a:ext cx="408960" cy="2216160"/>
            </a:xfrm>
            <a:prstGeom prst="bentConnector3">
              <a:avLst>
                <a:gd name="adj1" fmla="val 27929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92" name="_s1030"/>
            <p:cNvSpPr/>
            <p:nvPr/>
          </p:nvSpPr>
          <p:spPr>
            <a:xfrm>
              <a:off x="2364840" y="1600200"/>
              <a:ext cx="4412520" cy="8748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Среда обитания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031"/>
            <p:cNvSpPr/>
            <p:nvPr/>
          </p:nvSpPr>
          <p:spPr>
            <a:xfrm>
              <a:off x="4888440" y="2911320"/>
              <a:ext cx="3798000" cy="8748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Наземная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1032"/>
            <p:cNvSpPr/>
            <p:nvPr/>
          </p:nvSpPr>
          <p:spPr>
            <a:xfrm>
              <a:off x="457200" y="2911320"/>
              <a:ext cx="3798000" cy="8748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Водная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5" name="Picture 18" descr="водная среда"/>
          <p:cNvPicPr/>
          <p:nvPr/>
        </p:nvPicPr>
        <p:blipFill>
          <a:blip r:embed="rId1"/>
          <a:stretch/>
        </p:blipFill>
        <p:spPr>
          <a:xfrm>
            <a:off x="533520" y="3886200"/>
            <a:ext cx="3670200" cy="23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наземная среда"/>
          <p:cNvPicPr/>
          <p:nvPr/>
        </p:nvPicPr>
        <p:blipFill>
          <a:blip r:embed="rId2"/>
          <a:stretch/>
        </p:blipFill>
        <p:spPr>
          <a:xfrm>
            <a:off x="5016600" y="3886200"/>
            <a:ext cx="36702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хема. Царства органического мир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98" name="Organization Chart 10"/>
          <p:cNvGrpSpPr/>
          <p:nvPr/>
        </p:nvGrpSpPr>
        <p:grpSpPr>
          <a:xfrm>
            <a:off x="457200" y="1600200"/>
            <a:ext cx="8228880" cy="2185200"/>
            <a:chOff x="457200" y="1600200"/>
            <a:chExt cx="8228880" cy="2185200"/>
          </a:xfrm>
        </p:grpSpPr>
        <p:cxnSp>
          <p:nvCxnSpPr>
            <p:cNvPr id="99" name="_s2052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968080" y="1092240"/>
              <a:ext cx="407520" cy="3200760"/>
            </a:xfrm>
            <a:prstGeom prst="bentConnector3">
              <a:avLst>
                <a:gd name="adj1" fmla="val 2793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02" name="_s2053"/>
            <p:cNvCxnSpPr>
              <a:stCxn id="103" idx="0"/>
              <a:endCxn id="101" idx="2"/>
            </p:cNvCxnSpPr>
            <p:nvPr/>
          </p:nvCxnSpPr>
          <p:spPr>
            <a:xfrm flipV="1" rot="16200000">
              <a:off x="4901400" y="2158920"/>
              <a:ext cx="407520" cy="1067040"/>
            </a:xfrm>
            <a:prstGeom prst="bentConnector3">
              <a:avLst>
                <a:gd name="adj1" fmla="val 2793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04" name="_s2054"/>
            <p:cNvCxnSpPr>
              <a:stCxn id="105" idx="0"/>
              <a:endCxn id="101" idx="2"/>
            </p:cNvCxnSpPr>
            <p:nvPr/>
          </p:nvCxnSpPr>
          <p:spPr>
            <a:xfrm flipH="1" flipV="1" rot="5400000">
              <a:off x="2767680" y="1092240"/>
              <a:ext cx="407520" cy="3201120"/>
            </a:xfrm>
            <a:prstGeom prst="bentConnector3">
              <a:avLst>
                <a:gd name="adj1" fmla="val 2793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06" name="_s2055"/>
            <p:cNvCxnSpPr>
              <a:stCxn id="107" idx="0"/>
              <a:endCxn id="101" idx="2"/>
            </p:cNvCxnSpPr>
            <p:nvPr/>
          </p:nvCxnSpPr>
          <p:spPr>
            <a:xfrm flipH="1" flipV="1" rot="5400000">
              <a:off x="3834360" y="2158920"/>
              <a:ext cx="407520" cy="1067400"/>
            </a:xfrm>
            <a:prstGeom prst="bentConnector3">
              <a:avLst>
                <a:gd name="adj1" fmla="val 27939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01" name="_s2056"/>
            <p:cNvSpPr/>
            <p:nvPr/>
          </p:nvSpPr>
          <p:spPr>
            <a:xfrm>
              <a:off x="3657600" y="1600200"/>
              <a:ext cx="1828440" cy="8740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Организмы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2057"/>
            <p:cNvSpPr/>
            <p:nvPr/>
          </p:nvSpPr>
          <p:spPr>
            <a:xfrm>
              <a:off x="2590560" y="2911320"/>
              <a:ext cx="1828440" cy="8740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Грибы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2058"/>
            <p:cNvSpPr/>
            <p:nvPr/>
          </p:nvSpPr>
          <p:spPr>
            <a:xfrm>
              <a:off x="457200" y="2911320"/>
              <a:ext cx="1828440" cy="8740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Бактерии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2059"/>
            <p:cNvSpPr/>
            <p:nvPr/>
          </p:nvSpPr>
          <p:spPr>
            <a:xfrm>
              <a:off x="4724280" y="2911320"/>
              <a:ext cx="1828440" cy="8740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Растения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2060"/>
            <p:cNvSpPr/>
            <p:nvPr/>
          </p:nvSpPr>
          <p:spPr>
            <a:xfrm>
              <a:off x="6857640" y="2911320"/>
              <a:ext cx="1828440" cy="8740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Животные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8" name="Picture 26" descr="Зоология"/>
          <p:cNvPicPr/>
          <p:nvPr/>
        </p:nvPicPr>
        <p:blipFill>
          <a:blip r:embed="rId1"/>
          <a:stretch/>
        </p:blipFill>
        <p:spPr>
          <a:xfrm>
            <a:off x="7010280" y="4394160"/>
            <a:ext cx="1505160" cy="10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7" descr="Ботаника"/>
          <p:cNvPicPr/>
          <p:nvPr/>
        </p:nvPicPr>
        <p:blipFill>
          <a:blip r:embed="rId2"/>
          <a:stretch/>
        </p:blipFill>
        <p:spPr>
          <a:xfrm>
            <a:off x="4905360" y="4062240"/>
            <a:ext cx="1571760" cy="168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8" descr="бактерии"/>
          <p:cNvPicPr/>
          <p:nvPr/>
        </p:nvPicPr>
        <p:blipFill>
          <a:blip r:embed="rId3"/>
          <a:stretch/>
        </p:blipFill>
        <p:spPr>
          <a:xfrm>
            <a:off x="566640" y="3886200"/>
            <a:ext cx="1619280" cy="2036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9" descr="гриб"/>
          <p:cNvPicPr/>
          <p:nvPr/>
        </p:nvPicPr>
        <p:blipFill>
          <a:blip r:embed="rId4"/>
          <a:stretch/>
        </p:blipFill>
        <p:spPr>
          <a:xfrm>
            <a:off x="2666880" y="3930480"/>
            <a:ext cx="164484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заимопомощ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3" name="Picture 13" descr="гриб"/>
          <p:cNvPicPr/>
          <p:nvPr/>
        </p:nvPicPr>
        <p:blipFill>
          <a:blip r:embed="rId1"/>
          <a:stretch/>
        </p:blipFill>
        <p:spPr>
          <a:xfrm>
            <a:off x="357120" y="1568520"/>
            <a:ext cx="4038840" cy="4527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клубеньковые бактерии"/>
          <p:cNvPicPr/>
          <p:nvPr/>
        </p:nvPicPr>
        <p:blipFill>
          <a:blip r:embed="rId2"/>
          <a:stretch/>
        </p:blipFill>
        <p:spPr>
          <a:xfrm>
            <a:off x="4754520" y="1569960"/>
            <a:ext cx="403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Органы высших растени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6" name="Picture 14" descr="дуб"/>
          <p:cNvPicPr/>
          <p:nvPr/>
        </p:nvPicPr>
        <p:blipFill>
          <a:blip r:embed="rId1"/>
          <a:stretch/>
        </p:blipFill>
        <p:spPr>
          <a:xfrm>
            <a:off x="944640" y="1447920"/>
            <a:ext cx="2646360" cy="4647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ромашка"/>
          <p:cNvPicPr/>
          <p:nvPr/>
        </p:nvPicPr>
        <p:blipFill>
          <a:blip r:embed="rId2"/>
          <a:stretch/>
        </p:blipFill>
        <p:spPr>
          <a:xfrm>
            <a:off x="7004160" y="3429000"/>
            <a:ext cx="1195200" cy="26668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37"/>
          <p:cNvGrpSpPr/>
          <p:nvPr/>
        </p:nvGrpSpPr>
        <p:grpSpPr>
          <a:xfrm>
            <a:off x="3352680" y="5029200"/>
            <a:ext cx="4114800" cy="762120"/>
            <a:chOff x="3352680" y="5029200"/>
            <a:chExt cx="4114800" cy="762120"/>
          </a:xfrm>
        </p:grpSpPr>
        <p:sp>
          <p:nvSpPr>
            <p:cNvPr id="119" name="Text Box 18"/>
            <p:cNvSpPr/>
            <p:nvPr/>
          </p:nvSpPr>
          <p:spPr>
            <a:xfrm>
              <a:off x="4654440" y="50292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коре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3"/>
            <p:cNvSpPr/>
            <p:nvPr/>
          </p:nvSpPr>
          <p:spPr>
            <a:xfrm>
              <a:off x="6095880" y="5288040"/>
              <a:ext cx="1371600" cy="50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34"/>
            <p:cNvSpPr/>
            <p:nvPr/>
          </p:nvSpPr>
          <p:spPr>
            <a:xfrm>
              <a:off x="3352680" y="528948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Group 38"/>
          <p:cNvGrpSpPr/>
          <p:nvPr/>
        </p:nvGrpSpPr>
        <p:grpSpPr>
          <a:xfrm>
            <a:off x="2514600" y="4357800"/>
            <a:ext cx="5029200" cy="1052280"/>
            <a:chOff x="2514600" y="4357800"/>
            <a:chExt cx="5029200" cy="1052280"/>
          </a:xfrm>
        </p:grpSpPr>
        <p:sp>
          <p:nvSpPr>
            <p:cNvPr id="123" name="Text Box 19"/>
            <p:cNvSpPr/>
            <p:nvPr/>
          </p:nvSpPr>
          <p:spPr>
            <a:xfrm>
              <a:off x="4654440" y="43578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стебел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32"/>
            <p:cNvSpPr/>
            <p:nvPr/>
          </p:nvSpPr>
          <p:spPr>
            <a:xfrm>
              <a:off x="6172200" y="4648320"/>
              <a:ext cx="1371600" cy="761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>
              <a:off x="2514600" y="4495680"/>
              <a:ext cx="2133720" cy="152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Group 39"/>
          <p:cNvGrpSpPr/>
          <p:nvPr/>
        </p:nvGrpSpPr>
        <p:grpSpPr>
          <a:xfrm>
            <a:off x="2971800" y="2927520"/>
            <a:ext cx="4114800" cy="1339560"/>
            <a:chOff x="2971800" y="2927520"/>
            <a:chExt cx="4114800" cy="1339560"/>
          </a:xfrm>
        </p:grpSpPr>
        <p:sp>
          <p:nvSpPr>
            <p:cNvPr id="127" name="Text Box 20"/>
            <p:cNvSpPr/>
            <p:nvPr/>
          </p:nvSpPr>
          <p:spPr>
            <a:xfrm>
              <a:off x="4654440" y="351936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лис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1"/>
            <p:cNvSpPr/>
            <p:nvPr/>
          </p:nvSpPr>
          <p:spPr>
            <a:xfrm>
              <a:off x="5943600" y="3809880"/>
              <a:ext cx="114300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36"/>
            <p:cNvSpPr/>
            <p:nvPr/>
          </p:nvSpPr>
          <p:spPr>
            <a:xfrm>
              <a:off x="2971800" y="2927520"/>
              <a:ext cx="1981080" cy="80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хема. Высшее и низшие растен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31" name="Organization Chart 3"/>
          <p:cNvGrpSpPr/>
          <p:nvPr/>
        </p:nvGrpSpPr>
        <p:grpSpPr>
          <a:xfrm>
            <a:off x="457200" y="1600200"/>
            <a:ext cx="8228520" cy="2185200"/>
            <a:chOff x="457200" y="1600200"/>
            <a:chExt cx="8228520" cy="2185200"/>
          </a:xfrm>
        </p:grpSpPr>
        <p:cxnSp>
          <p:nvCxnSpPr>
            <p:cNvPr id="132" name="_s3076"/>
            <p:cNvCxnSpPr>
              <a:stCxn id="133" idx="0"/>
              <a:endCxn id="134" idx="2"/>
            </p:cNvCxnSpPr>
            <p:nvPr/>
          </p:nvCxnSpPr>
          <p:spPr>
            <a:xfrm flipH="1" flipV="1" rot="5400000">
              <a:off x="3259440" y="1584720"/>
              <a:ext cx="407520" cy="2216160"/>
            </a:xfrm>
            <a:prstGeom prst="bentConnector3">
              <a:avLst>
                <a:gd name="adj1" fmla="val 2793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5" name="_s3077"/>
            <p:cNvCxnSpPr>
              <a:stCxn id="136" idx="0"/>
              <a:endCxn id="134" idx="2"/>
            </p:cNvCxnSpPr>
            <p:nvPr/>
          </p:nvCxnSpPr>
          <p:spPr>
            <a:xfrm flipV="1" rot="16200000">
              <a:off x="5475600" y="1584720"/>
              <a:ext cx="407520" cy="2215440"/>
            </a:xfrm>
            <a:prstGeom prst="bentConnector3">
              <a:avLst>
                <a:gd name="adj1" fmla="val 27939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34" name="_s3078"/>
            <p:cNvSpPr/>
            <p:nvPr/>
          </p:nvSpPr>
          <p:spPr>
            <a:xfrm>
              <a:off x="2673000" y="1600200"/>
              <a:ext cx="3797640" cy="8740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Arial"/>
                </a:rPr>
                <a:t>Растения</a:t>
              </a:r>
              <a:endParaRPr b="0" lang="en-US" sz="4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3079"/>
            <p:cNvSpPr/>
            <p:nvPr/>
          </p:nvSpPr>
          <p:spPr>
            <a:xfrm>
              <a:off x="4888080" y="2911320"/>
              <a:ext cx="3797640" cy="8740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Arial"/>
                </a:rPr>
                <a:t>Высшие</a:t>
              </a:r>
              <a:endParaRPr b="0" lang="en-US" sz="4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3080"/>
            <p:cNvSpPr/>
            <p:nvPr/>
          </p:nvSpPr>
          <p:spPr>
            <a:xfrm>
              <a:off x="457200" y="2911320"/>
              <a:ext cx="3797640" cy="8740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Arial"/>
                </a:rPr>
                <a:t>Низшие</a:t>
              </a:r>
              <a:endParaRPr b="0" lang="en-US" sz="4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7" name="Picture 16" descr="фукус"/>
          <p:cNvPicPr/>
          <p:nvPr/>
        </p:nvPicPr>
        <p:blipFill>
          <a:blip r:embed="rId1"/>
          <a:stretch/>
        </p:blipFill>
        <p:spPr>
          <a:xfrm>
            <a:off x="1152360" y="4003560"/>
            <a:ext cx="2519640" cy="234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Дуб 1"/>
          <p:cNvPicPr/>
          <p:nvPr/>
        </p:nvPicPr>
        <p:blipFill>
          <a:blip r:embed="rId2"/>
          <a:stretch/>
        </p:blipFill>
        <p:spPr>
          <a:xfrm>
            <a:off x="5427720" y="4003560"/>
            <a:ext cx="25192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6" descr="DSCN0566_resize"/>
          <p:cNvPicPr/>
          <p:nvPr/>
        </p:nvPicPr>
        <p:blipFill>
          <a:blip r:embed="rId1"/>
          <a:stretch/>
        </p:blipFill>
        <p:spPr>
          <a:xfrm>
            <a:off x="4572000" y="3568680"/>
            <a:ext cx="3419640" cy="2560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pshenica"/>
          <p:cNvPicPr/>
          <p:nvPr/>
        </p:nvPicPr>
        <p:blipFill>
          <a:blip r:embed="rId2"/>
          <a:stretch/>
        </p:blipFill>
        <p:spPr>
          <a:xfrm>
            <a:off x="5381640" y="1181160"/>
            <a:ext cx="3416400" cy="25621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ветковые раст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2" name="Picture 15" descr="bell"/>
          <p:cNvPicPr/>
          <p:nvPr/>
        </p:nvPicPr>
        <p:blipFill>
          <a:blip r:embed="rId3"/>
          <a:stretch/>
        </p:blipFill>
        <p:spPr>
          <a:xfrm>
            <a:off x="1114560" y="1225440"/>
            <a:ext cx="3413160" cy="2560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PICT0696"/>
          <p:cNvPicPr/>
          <p:nvPr/>
        </p:nvPicPr>
        <p:blipFill>
          <a:blip r:embed="rId4"/>
          <a:stretch/>
        </p:blipFill>
        <p:spPr>
          <a:xfrm>
            <a:off x="297000" y="3564000"/>
            <a:ext cx="3416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бег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5" name="Picture 17" descr="PH08708"/>
          <p:cNvPicPr/>
          <p:nvPr/>
        </p:nvPicPr>
        <p:blipFill>
          <a:blip r:embed="rId1"/>
          <a:stretch/>
        </p:blipFill>
        <p:spPr>
          <a:xfrm>
            <a:off x="4719600" y="1538280"/>
            <a:ext cx="4038480" cy="4546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Урок 02 (15)"/>
          <p:cNvPicPr/>
          <p:nvPr/>
        </p:nvPicPr>
        <p:blipFill>
          <a:blip r:embed="rId2"/>
          <a:stretch/>
        </p:blipFill>
        <p:spPr>
          <a:xfrm>
            <a:off x="385920" y="1538280"/>
            <a:ext cx="394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хема. Органы цветковых растений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48" name="Organization Chart 3"/>
          <p:cNvGrpSpPr/>
          <p:nvPr/>
        </p:nvGrpSpPr>
        <p:grpSpPr>
          <a:xfrm>
            <a:off x="390600" y="1554120"/>
            <a:ext cx="8295480" cy="4584240"/>
            <a:chOff x="390600" y="1554120"/>
            <a:chExt cx="8295480" cy="4584240"/>
          </a:xfrm>
        </p:grpSpPr>
        <p:cxnSp>
          <p:nvCxnSpPr>
            <p:cNvPr id="149" name="_s4100"/>
            <p:cNvCxnSpPr>
              <a:stCxn id="150" idx="1"/>
              <a:endCxn id="151" idx="2"/>
            </p:cNvCxnSpPr>
            <p:nvPr/>
          </p:nvCxnSpPr>
          <p:spPr>
            <a:xfrm rot="10800000">
              <a:off x="5459400" y="3204360"/>
              <a:ext cx="448200" cy="26064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52" name="_s4101"/>
            <p:cNvCxnSpPr>
              <a:stCxn id="153" idx="1"/>
              <a:endCxn id="151" idx="2"/>
            </p:cNvCxnSpPr>
            <p:nvPr/>
          </p:nvCxnSpPr>
          <p:spPr>
            <a:xfrm rot="10800000">
              <a:off x="5459400" y="3204360"/>
              <a:ext cx="448200" cy="162396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54" name="_s4102"/>
            <p:cNvCxnSpPr>
              <a:stCxn id="155" idx="1"/>
              <a:endCxn id="151" idx="2"/>
            </p:cNvCxnSpPr>
            <p:nvPr/>
          </p:nvCxnSpPr>
          <p:spPr>
            <a:xfrm rot="10800000">
              <a:off x="5459400" y="3204360"/>
              <a:ext cx="448200" cy="641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56" name="_s4103"/>
            <p:cNvCxnSpPr>
              <a:stCxn id="157" idx="1"/>
              <a:endCxn id="158" idx="2"/>
            </p:cNvCxnSpPr>
            <p:nvPr/>
          </p:nvCxnSpPr>
          <p:spPr>
            <a:xfrm rot="10800000">
              <a:off x="1772280" y="3204360"/>
              <a:ext cx="445320" cy="162396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59" name="_s4104"/>
            <p:cNvCxnSpPr>
              <a:stCxn id="160" idx="1"/>
              <a:endCxn id="158" idx="2"/>
            </p:cNvCxnSpPr>
            <p:nvPr/>
          </p:nvCxnSpPr>
          <p:spPr>
            <a:xfrm rot="10800000">
              <a:off x="1772280" y="3204360"/>
              <a:ext cx="445320" cy="641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61" name="_s4105"/>
            <p:cNvCxnSpPr>
              <a:stCxn id="158" idx="0"/>
              <a:endCxn id="162" idx="2"/>
            </p:cNvCxnSpPr>
            <p:nvPr/>
          </p:nvCxnSpPr>
          <p:spPr>
            <a:xfrm flipH="1" flipV="1" rot="5400000">
              <a:off x="2545560" y="1451520"/>
              <a:ext cx="298080" cy="1843920"/>
            </a:xfrm>
            <a:prstGeom prst="bentConnector3">
              <a:avLst>
                <a:gd name="adj1" fmla="val 38331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63" name="_s4106"/>
            <p:cNvCxnSpPr>
              <a:stCxn id="151" idx="0"/>
              <a:endCxn id="162" idx="2"/>
            </p:cNvCxnSpPr>
            <p:nvPr/>
          </p:nvCxnSpPr>
          <p:spPr>
            <a:xfrm flipV="1" rot="16200000">
              <a:off x="4389120" y="1451160"/>
              <a:ext cx="298080" cy="1843920"/>
            </a:xfrm>
            <a:prstGeom prst="bentConnector3">
              <a:avLst>
                <a:gd name="adj1" fmla="val 38331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62" name="_s4107"/>
            <p:cNvSpPr/>
            <p:nvPr/>
          </p:nvSpPr>
          <p:spPr>
            <a:xfrm>
              <a:off x="2233800" y="1554120"/>
              <a:ext cx="2765160" cy="6548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Органы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4108"/>
            <p:cNvSpPr/>
            <p:nvPr/>
          </p:nvSpPr>
          <p:spPr>
            <a:xfrm>
              <a:off x="4077360" y="2536200"/>
              <a:ext cx="2765160" cy="654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Репродуктивные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4109"/>
            <p:cNvSpPr/>
            <p:nvPr/>
          </p:nvSpPr>
          <p:spPr>
            <a:xfrm>
              <a:off x="390600" y="2536200"/>
              <a:ext cx="2765160" cy="654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Вегетативные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4110"/>
            <p:cNvSpPr/>
            <p:nvPr/>
          </p:nvSpPr>
          <p:spPr>
            <a:xfrm>
              <a:off x="2233800" y="3518640"/>
              <a:ext cx="2765160" cy="6548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Корень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4111"/>
            <p:cNvSpPr/>
            <p:nvPr/>
          </p:nvSpPr>
          <p:spPr>
            <a:xfrm>
              <a:off x="2233800" y="4501080"/>
              <a:ext cx="2765160" cy="6548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Побег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4112"/>
            <p:cNvSpPr/>
            <p:nvPr/>
          </p:nvSpPr>
          <p:spPr>
            <a:xfrm>
              <a:off x="5920920" y="3518640"/>
              <a:ext cx="2765160" cy="6548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Цветок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4113"/>
            <p:cNvSpPr/>
            <p:nvPr/>
          </p:nvSpPr>
          <p:spPr>
            <a:xfrm>
              <a:off x="5920920" y="4501080"/>
              <a:ext cx="2765160" cy="6548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Плод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4114"/>
            <p:cNvSpPr/>
            <p:nvPr/>
          </p:nvSpPr>
          <p:spPr>
            <a:xfrm>
              <a:off x="5920920" y="5483520"/>
              <a:ext cx="2765160" cy="6548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Семя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2-29T15:55:1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