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FEE69-AE6D-4FCF-992C-45B60C456D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13FF0-C6DF-4989-ACA8-8E7A26C3B2A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16E25-4458-489D-8A64-E9EF32DE2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5D411-809F-4FF0-9D64-5599049E2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F7B4B-A129-45E5-ACFB-99880BE75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41138-50D1-4548-9FD9-1FFCE5B46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B43B8-22F9-4E18-8FA0-87D01E8DE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69DBE-F804-4DD0-BFC2-191C674C7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9F85D-D96E-46F2-B9A8-8930BDA3D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A19FE-4AEA-4D66-96E6-6C041824C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22829-A29B-4B01-B326-79E31287C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A515A-DED8-493B-85CA-1D285BE32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2599A-07D5-4104-A926-EE9C3348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BC7CF-E859-4C7B-8D3B-0DF82E63C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212A4-77DF-44EB-B1DE-ECA588D7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CC003-1B8A-4D20-B0C7-889F2F46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69B9A-FF88-4FE7-A0F5-BAB3B4A4F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16D65-18D8-44F4-B52D-83366A896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CF7F6-01BF-40E7-A1BB-70BD80777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A1BB7-D20E-4DB7-A8A7-CF0EA7984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15095-2107-4D58-B178-FF036C8D0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7219B-E902-4C9D-9167-0EE9B619F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3E8F3-0A02-40DB-8DCE-B7FA87EA2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A0E3C-7821-4511-AD9C-37273AAA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E10B0-EF87-4501-ACD7-DD9A33C5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F1865-B993-4B9D-A2A2-295EA821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10FAC-A220-4B34-A322-83C8199701D4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3BD69-A9E6-4414-8374-76E13F1B34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6863F-4988-486E-8251-E7C4A8C4F600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F9DD7-CB6B-4FD2-A5BF-078E91183C5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Дата 2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A1DEC-74DB-4DEC-986B-E3A5F834B2B8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5457B-07B6-41E2-8EFA-2166D2DC961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Отдел Моховидные. Особенности строения, жизнедеятельности, значение мхов.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0" name="Picture 5" descr="12"/>
          <p:cNvPicPr/>
          <p:nvPr/>
        </p:nvPicPr>
        <p:blipFill>
          <a:blip r:embed="rId1"/>
          <a:stretch/>
        </p:blipFill>
        <p:spPr>
          <a:xfrm>
            <a:off x="0" y="2997360"/>
            <a:ext cx="4392720" cy="3247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4"/>
          <p:cNvPicPr/>
          <p:nvPr/>
        </p:nvPicPr>
        <p:blipFill>
          <a:blip r:embed="rId2"/>
          <a:stretch/>
        </p:blipFill>
        <p:spPr>
          <a:xfrm>
            <a:off x="4859280" y="2997360"/>
            <a:ext cx="42847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Дата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0A5B8-4B14-463C-8702-566D56BF5BCC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FEBFD-01C7-4345-BD8E-82684C26A43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9" name="Picture 5" descr="ж цикл"/>
          <p:cNvPicPr/>
          <p:nvPr/>
        </p:nvPicPr>
        <p:blipFill>
          <a:blip r:embed="rId1"/>
          <a:stretch/>
        </p:blipFill>
        <p:spPr>
          <a:xfrm>
            <a:off x="611280" y="-30240"/>
            <a:ext cx="806436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Дата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00CD2-8BD7-4040-95B4-AD1B11536FE8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FE166-C1F8-4513-8EC4-FD35A591A32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8. Мхи - это тупиковая ветвь развития Высших растений: половой процесс зависит от наличия вод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9. Самые примитивные Высшие растения – это Псилофит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3" name="Picture 4" descr="psilofit"/>
          <p:cNvPicPr/>
          <p:nvPr/>
        </p:nvPicPr>
        <p:blipFill>
          <a:blip r:embed="rId1"/>
          <a:stretch/>
        </p:blipFill>
        <p:spPr>
          <a:xfrm>
            <a:off x="3203640" y="2468520"/>
            <a:ext cx="594036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Дата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0DE2A-269F-4915-B462-4D5E4BB34B3D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689BA-36B1-4F70-A81A-75D50B3EE9A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2962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10. Мхи устроены довольно просто: тело расчленено на стебель и листья, КОРНЕЙ НЕТ, но их функции выполняют ризоиды. Они всасывают воду, крепят растение к субстрату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7" name="Picture 6" descr="Строение органов прикрепления кукушкиного льна"/>
          <p:cNvPicPr/>
          <p:nvPr/>
        </p:nvPicPr>
        <p:blipFill>
          <a:blip r:embed="rId1"/>
          <a:stretch/>
        </p:blipFill>
        <p:spPr>
          <a:xfrm>
            <a:off x="3564000" y="765000"/>
            <a:ext cx="558000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Дата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A5B8E-89AA-4EDE-ACE5-64941EDD43C2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7AB16-024C-484B-8B12-D741E77708A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Лабораторная работа 5,6. «Строение мхов: кукушкина льна и сфагнума»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6335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e5e5ff"/>
                </a:solidFill>
                <a:uFillTx/>
                <a:latin typeface="Garamond"/>
              </a:rPr>
              <a:t>Цель</a:t>
            </a:r>
            <a:r>
              <a:rPr b="0" lang="ru-RU" sz="3200" spc="-1" strike="noStrike">
                <a:solidFill>
                  <a:srgbClr val="e5e5ff"/>
                </a:solidFill>
                <a:latin typeface="Garamond"/>
              </a:rPr>
              <a:t>: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изучить особенности строения кукушкина льна (зеленые мхи) и сфагнума (белые мхи)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Ход работы: 1. Зарисуйте растение и его части (ризоиды, стебель, листья, коробочку, крышечку, спорофор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2" name="Picture 6" descr="Копия Зеленый мох - кукушкин лен"/>
          <p:cNvPicPr/>
          <p:nvPr/>
        </p:nvPicPr>
        <p:blipFill>
          <a:blip r:embed="rId1"/>
          <a:stretch/>
        </p:blipFill>
        <p:spPr>
          <a:xfrm>
            <a:off x="6516720" y="1700280"/>
            <a:ext cx="262728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Дата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C390C-D490-4E30-939A-3D5C51E5AB37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4B539-A312-4A24-8DEC-0C90EBEA08C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755640" y="1413000"/>
            <a:ext cx="3322800" cy="29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Garamond"/>
              </a:rPr>
              <a:t>У сфагнума нет ризоидов.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6" name="Picture 4" descr="Коробочка сфагнума"/>
          <p:cNvPicPr/>
          <p:nvPr/>
        </p:nvPicPr>
        <p:blipFill>
          <a:blip r:embed="rId1"/>
          <a:stretch/>
        </p:blipFill>
        <p:spPr>
          <a:xfrm>
            <a:off x="4889520" y="476280"/>
            <a:ext cx="425448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Дата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0A5EF-957A-4E14-97E6-958EF31A9F8B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5D0EE-3768-4EEE-B235-1F0AFC66C16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549000"/>
            <a:ext cx="39704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Garamond"/>
              </a:rPr>
              <a:t>2. Зарисуйте строение клеток сфагнума.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Дата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5ADFD-0E82-410C-AED8-294524933E25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94DEE-EA65-47F9-8ED1-5E73752FBA2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4" name="Picture 4" descr="Строение сфагнума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Дата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FC197-305E-4AB8-AF15-101742AA0F0F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729C9-88B2-44FC-BDD5-187A6F209CE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1. Моховидные – это однодомные или двудомные растения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8" name="Picture 4" descr="Маршанция"/>
          <p:cNvPicPr/>
          <p:nvPr/>
        </p:nvPicPr>
        <p:blipFill>
          <a:blip r:embed="rId1"/>
          <a:stretch/>
        </p:blipFill>
        <p:spPr>
          <a:xfrm>
            <a:off x="1763640" y="1763640"/>
            <a:ext cx="5364360" cy="50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Дата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DFA33-3B19-4A35-8001-1A42637C7304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185EC-E6E9-4D71-B6C3-178D412B9C2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2. У мхов выражены 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ткани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: механическая, запасающая, проводящая, покровная и ассимиляционная (основная - фотосинтезирующая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Picture 4" descr="Строение стебля кукушкиного льна"/>
          <p:cNvPicPr/>
          <p:nvPr/>
        </p:nvPicPr>
        <p:blipFill>
          <a:blip r:embed="rId1"/>
          <a:stretch/>
        </p:blipFill>
        <p:spPr>
          <a:xfrm>
            <a:off x="4140360" y="1947960"/>
            <a:ext cx="5003640" cy="49100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кукушкин лен 1"/>
          <p:cNvPicPr/>
          <p:nvPr/>
        </p:nvPicPr>
        <p:blipFill>
          <a:blip r:embed="rId2"/>
          <a:stretch/>
        </p:blipFill>
        <p:spPr>
          <a:xfrm>
            <a:off x="0" y="2708280"/>
            <a:ext cx="39243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Дата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D14DA-91D0-410D-A79D-A55ED24CB030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D4D3D-8734-4AA9-92EB-9FDF3694BE9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2555640" y="1483920"/>
            <a:ext cx="6337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фагнум может впитать воды в 20-25 раз больше своей массы (водоносные клетки). В центре стебля есть тонкостенные клетки, которые выполняют проводящую и запасающую функции. Они окружены окрашенными клетками (механическая ткань)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ижние части растения постепенно отмирают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Мхи растут в очень влажных местах, влага поступает сразу в стебель (нет ризоидов)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Picture 5" descr="Сфагнум"/>
          <p:cNvPicPr/>
          <p:nvPr/>
        </p:nvPicPr>
        <p:blipFill>
          <a:blip r:embed="rId1"/>
          <a:stretch/>
        </p:blipFill>
        <p:spPr>
          <a:xfrm>
            <a:off x="0" y="2924280"/>
            <a:ext cx="2556000" cy="29239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6"/>
          <p:cNvSpPr/>
          <p:nvPr/>
        </p:nvSpPr>
        <p:spPr>
          <a:xfrm>
            <a:off x="395280" y="47628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WordArt 7"/>
          <p:cNvSpPr txBox="1"/>
          <p:nvPr/>
        </p:nvSpPr>
        <p:spPr>
          <a:xfrm>
            <a:off x="611280" y="0"/>
            <a:ext cx="76327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собенности сфагнум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Дата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97464-480E-4F01-BF60-672EE3F0CD55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8FA6A-7A6F-430F-88BF-43C05E9328B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ЦЕЛЬ УРОКА: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зучить отдел Моховидны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характеризовать особенности мхов, их многообразие, распространение, роль в биоценозах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Дата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30C21-D828-4C67-B722-7DD880573BAC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Номер слайда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F533D-A988-4529-9894-D26BD3D9535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2" name="Picture 4" descr="сфагн2"/>
          <p:cNvPicPr/>
          <p:nvPr/>
        </p:nvPicPr>
        <p:blipFill>
          <a:blip r:embed="rId1"/>
          <a:stretch/>
        </p:blipFill>
        <p:spPr>
          <a:xfrm>
            <a:off x="250920" y="260280"/>
            <a:ext cx="4608360" cy="32353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112"/>
          <p:cNvPicPr/>
          <p:nvPr/>
        </p:nvPicPr>
        <p:blipFill>
          <a:blip r:embed="rId2"/>
          <a:stretch/>
        </p:blipFill>
        <p:spPr>
          <a:xfrm>
            <a:off x="4500720" y="2276640"/>
            <a:ext cx="4071960" cy="40716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6"/>
          <p:cNvSpPr/>
          <p:nvPr/>
        </p:nvSpPr>
        <p:spPr>
          <a:xfrm>
            <a:off x="395280" y="3789360"/>
            <a:ext cx="3600360" cy="1081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Garamond"/>
              </a:rPr>
              <a:t>13. Значени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Garamond"/>
              </a:rPr>
              <a:t>мхов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Дата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57F87-2E29-406B-9093-9A16A7642A93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E5936-581A-4EAD-B2CF-C775295E66E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76720" y="1125360"/>
            <a:ext cx="5543280" cy="482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Торф.</a:t>
            </a:r>
            <a:br>
              <a:rPr sz="40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Со временем нижняя часть стебля сфагнума отмирает. Благодаря увлажнению, недостатку кислорода и наличию бактерицидной кислой среды разложение остатков не происходит. Так накапливаются залежи торфа.</a:t>
            </a:r>
            <a:br>
              <a:rPr sz="28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98" name="Picture 4" descr="Брикет торфа"/>
          <p:cNvPicPr/>
          <p:nvPr/>
        </p:nvPicPr>
        <p:blipFill>
          <a:blip r:embed="rId1"/>
          <a:stretch/>
        </p:blipFill>
        <p:spPr>
          <a:xfrm>
            <a:off x="0" y="836640"/>
            <a:ext cx="320364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Дата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D58E1-E073-47F2-BCC5-C1EF068722C9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B4E21-2401-4D8A-9454-851BCF8B79B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68360" y="2332080"/>
            <a:ext cx="3898800" cy="34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Меж клюквы и морошк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Жилец лесных болот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а кочке мох без ножк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уда ни глянь, растёт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н снизу седоватый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выше – зеленей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Сфагнум может заменить йод и вату при ранениях – дезинфицирует и впитывает кровь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4572000" y="2997360"/>
            <a:ext cx="457200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оль нужно будет ваты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арви его скорей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а кустиках полян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дсушен в летний зной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н партизанам ран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Лечил в глуши лесно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e5e5ff"/>
                </a:solidFill>
                <a:latin typeface="Garamond"/>
              </a:rPr>
              <a:t>Вс. Рождественски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Дата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7F624-4662-4D6F-B0FF-232D2C5EC85D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D96E8-EF79-45E9-BD29-F82D3584D37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755280" y="620640"/>
            <a:ext cx="41972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фагнум содержит вещество </a:t>
            </a: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сфагнол,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препятствующее развитию гнилостных бактерий. Известно много случаев, когда при торфяных разработках находили неразложившиеся трупы людей и животных. Так в Англии был найден провалившийся в болото несколько веков назад закованный в латы рыцарь вместе с лошадью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7" name="Picture 4" descr="4395F8E"/>
          <p:cNvPicPr/>
          <p:nvPr/>
        </p:nvPicPr>
        <p:blipFill>
          <a:blip r:embed="rId1"/>
          <a:stretch/>
        </p:blipFill>
        <p:spPr>
          <a:xfrm>
            <a:off x="5442120" y="1413000"/>
            <a:ext cx="37018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Дата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1EAE6-F8F0-4480-9EB3-5BCFA3320AE9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08207-1887-4387-9504-37FF0787B06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1" name="Picture 4" descr="Значение мхов в природе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Дата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1E509-1F94-4CC9-A064-DE08AEB61D87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2DA7C-6626-403B-8E7F-60225B6DB5B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Среди листостебельных мхов многие отличаются широким распространением (иногда в умеренных и холодных зонах обоих полушарий), высокой жизненной устойчивостью и большой фитоценотической ролью в растительном покрове Земли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Дата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88E0C-09A1-4EE9-8AF9-FB4641D87A8F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CFA48-55E0-4582-AC1D-66DDD34462D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Garamond"/>
              </a:rPr>
              <a:t>Автотрофные организм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Garamond"/>
              </a:rPr>
              <a:t>Корм, материал для строительства гнезд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Garamond"/>
              </a:rPr>
              <a:t>Пионеры растительности (вместе с лишайниками) – формируют грун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Garamond"/>
              </a:rPr>
              <a:t>Образуют залежи торфа. Это топливо, удобрение, стройматериал, подстилка скоту; сорбент для очистки редких металлов; сырье хим. промышленности: Этиловый и метиловый спирт, парафин, воск, деготь, фенол и проч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uk-UA" sz="2800" spc="-1" strike="noStrike">
                <a:solidFill>
                  <a:srgbClr val="ffffff"/>
                </a:solidFill>
                <a:latin typeface="Garamond"/>
              </a:rPr>
              <a:t>Регулируют водный баланс планет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Garamond"/>
              </a:rPr>
              <a:t>Заболачивание сельскохозяйственных угодий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Garamond"/>
              </a:rPr>
              <a:t>В медицине: перевязочный, бактерицидный материал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Garamond"/>
              </a:rPr>
              <a:t>В экологии: очистка сточных вод, горнодобывающих шахт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Дата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657B7-1FB6-4F6D-89F2-EDA156E9EADA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00FEC-8712-450C-9057-FB2725228FC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Основные особенности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ffffff"/>
                </a:solidFill>
                <a:uFillTx/>
                <a:latin typeface="Garamond"/>
              </a:rPr>
              <a:t>Количество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: 22000-27000 видов, по некоторым данным 35000 видо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2160" indent="-5421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Появились около 350 млн. лет назад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2160" indent="-5421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Наука о мхах - БРИОЛОГ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2160" indent="-5421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Размеры от 1 мм до 50-60 с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2160" indent="-5421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Отдел включает 3 группы (Антоцеротовые, Печеночники, Листостебельные), из которых наиболее распространены Листостебельные или Настоящие мхи. К ним относятся </a:t>
            </a:r>
            <a:r>
              <a:rPr b="1" lang="uk-UA" sz="3600" spc="-1" strike="noStrike">
                <a:solidFill>
                  <a:srgbClr val="ffffff"/>
                </a:solidFill>
                <a:latin typeface="Garamond"/>
              </a:rPr>
              <a:t>зеленые мхи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 (кукушкин лен) и </a:t>
            </a:r>
            <a:r>
              <a:rPr b="1" lang="uk-UA" sz="3600" spc="-1" strike="noStrike">
                <a:solidFill>
                  <a:srgbClr val="ffffff"/>
                </a:solidFill>
                <a:latin typeface="Garamond"/>
              </a:rPr>
              <a:t>белые мхи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 (сфагнум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Дата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3344E-C8CB-401B-B9AD-2A21A79FFE22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16851-1222-420B-9BCE-B9412AE7ACF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Гр. Антоцеротовы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4" descr="275px-Anthoceros_levis"/>
          <p:cNvPicPr/>
          <p:nvPr/>
        </p:nvPicPr>
        <p:blipFill>
          <a:blip r:embed="rId1"/>
          <a:stretch/>
        </p:blipFill>
        <p:spPr>
          <a:xfrm>
            <a:off x="755640" y="1052640"/>
            <a:ext cx="748836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Дата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CC98A-EC48-4862-B713-0A8DFEBDEB34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85C92-258F-46D6-B322-C2754FB5E51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443640" y="692280"/>
            <a:ext cx="2232000" cy="42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Гр. Печеночник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Picture 4" descr="печеночн"/>
          <p:cNvPicPr/>
          <p:nvPr/>
        </p:nvPicPr>
        <p:blipFill>
          <a:blip r:embed="rId1"/>
          <a:stretch/>
        </p:blipFill>
        <p:spPr>
          <a:xfrm>
            <a:off x="0" y="0"/>
            <a:ext cx="601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Дата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FD0E9-4C67-4C99-AFB2-140C2DE673E0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EF588-2BC1-4D58-8186-E8E01743292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Гр. Листостебельны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3" name="Picture 4" descr="Рисунок8"/>
          <p:cNvPicPr/>
          <p:nvPr/>
        </p:nvPicPr>
        <p:blipFill>
          <a:blip r:embed="rId1">
            <a:lum contrast="6000"/>
          </a:blip>
          <a:srcRect l="3114" t="0" r="3799" b="0"/>
          <a:stretch/>
        </p:blipFill>
        <p:spPr>
          <a:xfrm>
            <a:off x="1403280" y="907920"/>
            <a:ext cx="640872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Дата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AFCA3-1279-4C6C-87A5-7C1220BD5DAD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AF2EB-7C13-4FB0-8D7C-6966B8FCDB7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ture 4" descr="Зеленый мох - кукушкин лен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Дата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7E5BC-5EE8-4218-A3B6-D00AB07AED83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A8CC6-62CF-4248-8F8D-23EAA4C81F7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Кукушкин лен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1" name="[BIO6_05-40-08]_[MV_14_02].WMV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2" dur="1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Дата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E8CC7-6670-4658-97A5-7987587598AA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51D9F-5A2E-4558-B599-FF7D6A033BB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0" lang="uk-UA" sz="4000" spc="-1" strike="noStrike">
                <a:solidFill>
                  <a:srgbClr val="ffffff"/>
                </a:solidFill>
                <a:latin typeface="Garamond"/>
              </a:rPr>
              <a:t>Органы полового размножения называются: АРХЕГОНИИ (жен) и АНТЕРИДИИ (муж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Garamond"/>
              </a:rPr>
              <a:t>7. В жизненном цикле происходит чередование поколений: гаметофита (ПРЕОБЛАДАЕТ) и спорофита (является  паразитом гаметофита)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3T19:54:16Z</dcterms:created>
  <dc:creator>Oleg</dc:creator>
  <dc:description/>
  <dc:language>en-US</dc:language>
  <cp:lastModifiedBy>Admin</cp:lastModifiedBy>
  <dcterms:modified xsi:type="dcterms:W3CDTF">2010-11-25T16:23:42Z</dcterms:modified>
  <cp:revision>12</cp:revision>
  <dc:subject/>
  <dc:title>Відділ Мохоподібні</dc:title>
</cp:coreProperties>
</file>