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6981-47F9-4D6A-A0F0-A692E354CB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35F-CD95-4CAD-B1A9-55B42AD080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B1F-4A4D-404A-8E60-0A55290C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090-A2A4-4F5F-8C0D-46CB81A1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3CFB3-5703-47E1-B1C6-0D60F9C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8CEB5-0A5F-4ECC-8552-161D4F3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21615-C7D0-4442-8FFC-B9704264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A300E-D163-47FB-9305-36D63D54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B57F3-1550-4533-AC9D-ACE30EE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565B7-3871-4B6E-8FC0-DF03D2E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C573C-5E86-4D24-AE3B-90F1CF0A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2F37D-101B-4715-B5A8-338895BB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A9E17-26EE-4A5C-858A-12E5F7B9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0BE-F46D-4737-AC53-9BCC70C1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6FC-AA9F-46F4-B6DD-36A0BBD7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1389-7BCD-42C6-88D9-553E8767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C2A7-62D2-44B1-9442-4A17F638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8897-E402-4909-9CE9-79C74F11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9A35-7884-4F59-AD23-92CBE2BC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3D46-ABFC-44E7-B893-06A31B8C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D0AB-E8B0-4202-B50C-C6C0A6E3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3BFB-CF62-4F26-8FA6-F17AB8DD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6C5-BAC3-4F5D-BE89-19097297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320B-88BD-45E4-A514-0ED89081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64FA-6E4B-4A2B-9521-55E22115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7E7C-D30C-4D6E-AB50-E53573DA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1108-8351-428F-A92A-B17BD19C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BCBC-9A19-495E-A6F2-8CBE37D8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6FA8-1D0B-41A2-AC54-BDDD4013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C070-7AA5-46D3-BE21-DBACD772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ACBC-2A74-490B-8A67-15BBDB2E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1409-ACEE-4F49-AC07-F4B234FA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AD8D-8DE5-436B-95D8-C240EDB0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14F-AAFB-44D9-ABB3-4F139331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CBF4-6759-443B-B0AB-B3A3A5E7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3C8F-5AE4-4840-9E3E-B229C84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616D-ADD3-489A-9DD8-483B7FF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5F4D-7443-4CDC-897B-94F345E6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2FC8-AB70-424B-9334-3FCE399B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9E20-5EBE-47E7-84B1-265139D8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3E2D-9039-439E-A780-17492BAE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3695-B381-490A-A36F-E77CE21A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F847-BACC-4852-ACE5-CBA98F7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6516-42DC-4CE3-9745-00854DDC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132-B369-4DBC-990B-C108096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5464-54F9-4530-9D60-88ACCB76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4E40-747F-41BE-A9F7-2E63C5C9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C0EF-5B6E-4FDB-8176-D28EBBEA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EA67C-A6C3-4E5D-9820-2608225D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C2FF-1BBE-4919-81FF-FF68AF93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9BF0-028E-4F3A-BDCC-6D935191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C657F-21D3-412C-A4B0-B640A5A7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8254-8499-4267-BDD1-BAC4917D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2BE26-EA20-4E6F-98E7-F5D8A092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1A79-2488-4DE5-BC64-1A1882FC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4F3-E6C5-4CFF-8CFE-55501D39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09F8-5587-48CA-B250-02C4CDF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919CF-C996-43F2-ADFC-ACFDE967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D3BD2-6B49-476B-B354-2340A07C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CD0D6-3792-47F9-86FE-FED0F12F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86155-4E22-45AC-A692-82911C84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A753E-F042-408B-B4DF-43CAFB2A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74EB-A1EF-4BAC-B9AB-9C2702C7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7F70-9350-4676-A35D-8E7C0C6A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8AF1-F6AD-4292-9B1B-3B34BE52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830E-CAFB-43EE-911F-D839A070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411-90C3-4728-863F-FF5129AC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D5FED-0FD5-4872-8303-C13671BF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B1AF3-F922-4A01-A69B-3B4666D8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0ADD1-9087-42B5-AC0B-4D44BB47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14198-9A83-4CCB-A035-D26B249D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94383-F02A-40DD-B0FA-D7142C60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F39BD-F96E-4C69-A20E-C5279D30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AEC90-53E4-4649-A876-BA43E9FA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BAD9-F70E-41DB-A790-9C9AF66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E400C-3983-4F54-BD42-168B38D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B43C-61A9-432D-8F7B-48627D4B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601-30D5-4BD3-98CB-AFECB94C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E2485-FCC1-4031-951B-B7B56574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46D96-468E-4BC8-8473-9D929059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ECE12-067C-495D-B0CB-7A0AEBF3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EC3A-7065-40B1-B640-A21562E9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08D43-143A-4321-B2D3-D810F82B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31C1B-280A-4264-8DB6-56AE37E8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73A98-B9EE-4FFA-AD39-4D07C114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A398E-490D-4876-A04B-A33E1A36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9FF75-249C-4269-90E5-2B8D9AF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D401D-71FE-41D7-97B8-CF0649C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FCD-0CA4-47D4-A1CF-7B22AD1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7EF5A-8264-4B90-AE2C-81FF9E5F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BFE1-B721-48B1-9F71-DB266ACB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E5CF6-8E19-4EFF-976B-88C5E40D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3A993-EDE9-4C19-BA21-F57DAAD9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8E90D-EF85-4097-B98E-8A2F882F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3E595-D887-44B4-8AD2-B3903B5C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7D6F1-4FBB-4028-85BF-18C07A81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660E-2A8E-4BA2-BA46-729D4999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06CAE-3544-432A-AE7B-4C695C7B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B99ED-6AFC-4A9B-B1D6-8EBC7BD9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ADE-ECE1-4805-BDFD-5F912EDD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E67DD-BFF6-48F4-B458-83107606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1C0BA-9F66-4BE1-8844-C3621F6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17DF6-CE50-4D7F-8FBB-722B9DD6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B467A-B47E-4EC8-9F91-D7BCDC0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30579-C8B7-4BFF-822E-8A53C8CE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7C126-02F4-485A-9716-11221CC2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FDC3F-A07F-4C5C-A644-423CA99F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C4829-51E6-4906-80A2-12B2E9AD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10CB5-DED1-43DF-9DB2-7C1E9459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FFD1A-8CAF-4ED9-B110-6A6C34D1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8A17-AC73-4319-9E32-DC16408C65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B65E-62E2-436C-9327-50113ED0BB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80D4-0737-45E9-A9D6-4F87FE77BC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96A9-445E-4DC3-80A7-1C72ACF661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056F-F8A5-4020-9037-61FBDA732A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2ED8-8AD0-4525-92DA-6AAAA3D3A2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299E-166D-499F-89A6-18217534B9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1AC7-BF56-45C7-A297-37AA877FAC5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706A-28A9-4487-8E46-8D6BF41BB1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15920" y="-73080"/>
            <a:ext cx="863136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578592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Рисунок 3" descr="Bulgaria.jpg"/>
          <p:cNvPicPr/>
          <p:nvPr/>
        </p:nvPicPr>
        <p:blipFill>
          <a:blip r:embed="rId2"/>
          <a:stretch/>
        </p:blipFill>
        <p:spPr>
          <a:xfrm>
            <a:off x="0" y="642960"/>
            <a:ext cx="9144000" cy="62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15920" y="-73080"/>
            <a:ext cx="863136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0" y="6286320"/>
            <a:ext cx="9144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Залив Солнечный берег – в феврале здесь тысячи лебеде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Рисунок 4" descr="Bolgarij.jpg"/>
          <p:cNvPicPr/>
          <p:nvPr/>
        </p:nvPicPr>
        <p:blipFill>
          <a:blip r:embed="rId2"/>
          <a:stretch/>
        </p:blipFill>
        <p:spPr>
          <a:xfrm>
            <a:off x="0" y="857160"/>
            <a:ext cx="9091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15920" y="-73080"/>
            <a:ext cx="863136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Постоянно живут на побережье лишь слабые и немолодые птицы. Основная масса весной улетает в Скандинави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Рисунок 5" descr="lebedi-B.jpg"/>
          <p:cNvPicPr/>
          <p:nvPr/>
        </p:nvPicPr>
        <p:blipFill>
          <a:blip r:embed="rId2"/>
          <a:stretch/>
        </p:blipFill>
        <p:spPr>
          <a:xfrm>
            <a:off x="500040" y="714240"/>
            <a:ext cx="807264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15920" y="-73080"/>
            <a:ext cx="8631360" cy="1000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Лебедей подкармливают и зимой и летом. Чаще кукурузой. Им больше кукурузный хлеб нравится. Приручаются быстр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4" descr="lebedi-C.jpg"/>
          <p:cNvPicPr/>
          <p:nvPr/>
        </p:nvPicPr>
        <p:blipFill>
          <a:blip r:embed="rId2"/>
          <a:stretch/>
        </p:blipFill>
        <p:spPr>
          <a:xfrm>
            <a:off x="0" y="714240"/>
            <a:ext cx="9144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15920" y="-73080"/>
            <a:ext cx="863136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Судя по всему, в Болгарии обитают лебеди-шипуны, во всяком случае шипят они регулярно, если чем-то недовольн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Рисунок 5" descr="lebedi-D.jpg"/>
          <p:cNvPicPr/>
          <p:nvPr/>
        </p:nvPicPr>
        <p:blipFill>
          <a:blip r:embed="rId2"/>
          <a:stretch/>
        </p:blipFill>
        <p:spPr>
          <a:xfrm>
            <a:off x="285840" y="714240"/>
            <a:ext cx="86439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15920" y="-73080"/>
            <a:ext cx="863136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В феврале 2010 в заливе Солнечный берег зимовали тысячи белых лебедей. Позже местные жители объяснили, что такое бывает не всегда, а только в очень холодные зимы, когда замерзают озер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Рисунок 4" descr="lebedi-E.jpg"/>
          <p:cNvPicPr/>
          <p:nvPr/>
        </p:nvPicPr>
        <p:blipFill>
          <a:blip r:embed="rId2"/>
          <a:stretch/>
        </p:blipFill>
        <p:spPr>
          <a:xfrm>
            <a:off x="928800" y="857160"/>
            <a:ext cx="69292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15920" y="-73080"/>
            <a:ext cx="863136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Питаются лебеди водорослями, за которыми ныряют, смешно оставляя на поверхности моря лишь хвост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Рисунок 5" descr="lebedi-F.jpg"/>
          <p:cNvPicPr/>
          <p:nvPr/>
        </p:nvPicPr>
        <p:blipFill>
          <a:blip r:embed="rId2"/>
          <a:stretch/>
        </p:blipFill>
        <p:spPr>
          <a:xfrm>
            <a:off x="0" y="1214280"/>
            <a:ext cx="92264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15920" y="-73080"/>
            <a:ext cx="863136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Вечерами выходящие на прогулку приезжие обязательно прихватывают с собой кусочек хлеба для белых красавце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Рисунок 4" descr="Bulgarib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15920" y="-73080"/>
            <a:ext cx="8631360" cy="10000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0" y="5929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Городок Святой Вла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Рисунок 5" descr="Bulgaric.jpg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0:58:25Z</dcterms:created>
  <dc:creator>user</dc:creator>
  <dc:description/>
  <dc:language>en-US</dc:language>
  <cp:lastModifiedBy>user</cp:lastModifiedBy>
  <dcterms:modified xsi:type="dcterms:W3CDTF">2011-10-20T11:18:59Z</dcterms:modified>
  <cp:revision>3</cp:revision>
  <dc:subject/>
  <dc:title>Болгария – страна белых лебедей</dc:title>
</cp:coreProperties>
</file>