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png" ContentType="image/pn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54DC-F90B-4612-BE90-F17CD7CCD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36A7-A495-4B94-B2DF-BA2EDD602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2E08-3C68-4F62-8A48-63EFC0330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E9F6-3061-47CB-A49E-C84019B72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15743-AB9B-4520-90C5-DCAC83A8D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99406-CC3B-4FE9-88FD-298A98E8F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76348-6A4B-4A71-8DCD-FC888C599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2400F-CD77-48C5-8189-0E07FB9FC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9A87B-58FF-4F3E-A9D5-C21980FAF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DA949-EA71-40CD-BC71-FBC55FFC6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22526-59A1-4883-A813-CFDCD78C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C853-545D-4224-A312-FCDE5E9D9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A27C9-88C5-4C60-B841-EB24D16C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58109-8152-4BFB-B6DA-B87451E9E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F9A13-3EB2-4C40-AAF7-8A6188980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4039C-5DD9-453D-AECD-5D02C1131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AFDB0-FB6B-461C-AAD3-700ED4F61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8F53-35F1-4B57-B5DF-CA9D812CC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12F8-7A3F-4CFC-8B2D-3E972A838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95E4-EE42-4F91-A1A8-9B2EEF272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9189-AEAF-44CC-A6C7-B3DF7BA32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3ABA-0B43-4883-86D4-D6EF4C284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C727-7F44-4C4C-B40F-09120092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7EC4-0E20-4551-B62F-2AFD7FEC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966C7-57F5-491F-AA41-6F7513AE00B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10417-13E2-4BBA-BB18-3712E6F29384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Многообразие Кольчатых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червей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лощетинковые чер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ногощетинковые чер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ия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763416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76197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77058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6912000" cy="58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187280" y="404640"/>
            <a:ext cx="5653080" cy="602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7416720" cy="56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7272360" cy="59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95280" y="927000"/>
            <a:ext cx="74167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Класс Малощетинковые черв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2276640"/>
            <a:ext cx="533880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Хорошо известны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и распространены дождевые черви.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300720" y="2060640"/>
            <a:ext cx="2438640" cy="304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676908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2" dur="1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6840360" cy="55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65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8" dur="1" fill="hold"/>
                                        <p:tgtEl>
                                          <p:spTgt spid="1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68360" y="404640"/>
            <a:ext cx="3672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Класс Пиявк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78920" y="1844640"/>
            <a:ext cx="442908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ставители этого класса – паразиты или хищни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аще всего обитают в стоячих пресных водоём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788000" y="1773360"/>
            <a:ext cx="4176720" cy="402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403280" y="189000"/>
            <a:ext cx="48243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676944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813744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7705800" cy="52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11280" y="981000"/>
            <a:ext cx="7057800" cy="52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7488000" cy="465768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26920" y="404640"/>
            <a:ext cx="60595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Период размножения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712800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6" dur="1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Класс Многощетинковые черв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55640" y="2060640"/>
            <a:ext cx="69120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битатели морей и океанов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ни либо свободно плавают в водной среде (нереис, морская мышь, палоло), либо живут в грунте (пескожил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7489800" cy="564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2T13:12:34Z</dcterms:created>
  <dc:creator>Admin</dc:creator>
  <dc:description/>
  <dc:language>en-US</dc:language>
  <cp:lastModifiedBy>Admin</cp:lastModifiedBy>
  <dcterms:modified xsi:type="dcterms:W3CDTF">2010-10-02T15:38:43Z</dcterms:modified>
  <cp:revision>6</cp:revision>
  <dc:subject/>
  <dc:title>Многообразие Кольчатых  червей</dc:title>
</cp:coreProperties>
</file>